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F6A4-799D-4205-BCD7-2B9DE0FA2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2A8D-E238-45C8-89BE-044687AA7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D212-4C65-4973-8EA4-AC08DDF6F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02F7-4783-48C8-B2E8-41963B623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A0EF-5C1E-435A-AE49-3DD8605D8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37AD-93C9-4109-A76B-5C81EF84E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B42A-7D5B-484F-8E15-FBD704164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4E17-F1EC-47DF-9716-3BE06EF18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C550-8EFA-4C43-86D3-5029FC90B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7C85-4E28-4184-B861-0D1E225CA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ED61-CD74-4F9A-AAD0-BFA70C36F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0435-82B6-4C7D-B41D-CBC3AB24D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4B2B-A594-4E8E-925A-26FD61228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646C-3D85-4B65-8359-A2CF0277B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D929-19A6-4B6B-AF8C-FB112E5F0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DEC2-1933-4FB2-B6A7-55E857D8E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8502-4CB2-4FF5-8897-8041CE7EA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4D9F-DC9A-41A5-BE80-FDB2FBBA8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C2F8-FC58-4732-B184-851729BD0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3AFB-8C24-44F6-ABC1-94829E343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EAE5-98D7-4A5C-AAB9-EC6DD9936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8282-F598-4BDC-B195-EDB32D3ED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755B-1D16-4549-A704-02AFE0E96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E49A-D38C-43DD-8818-8A235BB6B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FBCD-0221-480F-8D35-260B69054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9228-2F82-4F39-8FE5-36F7E2E4A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689D-F1E9-4F76-9E4E-219E7606D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9C41-C4AF-4A45-8CD4-B0721DAB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563-160B-4FCE-A5B9-F19CC98E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2F2-154D-4E93-A637-94CE3ACF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50D-AC2E-48A8-9ED4-5C1E2AFB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13C-AFC3-45D4-8252-CCC24449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147D2-1F99-4A7C-9C4A-050FA5ABCE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BEC83-ACC6-4150-A17D-25991CF9DD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60607-EEEB-46F5-B111-D6C63A5DBA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456F7-B1E6-43D5-8CF1-2B4CD7222C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F78D8-DAC1-4242-B7D4-DB077B04ED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7A3-CFE8-4DF8-A608-61441EAD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71DC9-E35D-44EA-A8B3-B8D58F981E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37115-D33D-467C-8163-257A087DC3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71098-731E-4415-998E-27599FABD9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5EB52-F92E-4A4E-9F2D-C9683F4192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B343A-6843-4317-B95D-BBE49678A9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F94AE-CA61-44A3-B6A7-08395158E2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67C03-0464-45AA-B075-7088FD0A4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6F7-F7B4-4CCF-87F0-42EAFADA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02D-2CD4-4947-80A4-917D9C95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266-67BC-4282-B9A4-49B5AC89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7632-53EB-4AF2-90D6-EA49F646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2551-718C-489E-819A-933EF00E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0250-1E10-4DDB-B3E7-F3511004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244920"/>
            <a:ext cx="5943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4920"/>
            <a:ext cx="1905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11, Slide </a:t>
            </a:r>
            <a:fld id="{59CC786C-E062-49A8-B792-2981D646F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457200" y="1523880"/>
            <a:ext cx="8229600" cy="0"/>
          </a:xfrm>
          <a:prstGeom prst="line">
            <a:avLst/>
          </a:prstGeom>
          <a:ln w="57240">
            <a:solidFill>
              <a:srgbClr val="990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8" descr="bozarth-chapter11"/>
          <p:cNvPicPr/>
          <p:nvPr/>
        </p:nvPicPr>
        <p:blipFill>
          <a:blip r:embed="rId2"/>
          <a:stretch/>
        </p:blipFill>
        <p:spPr>
          <a:xfrm>
            <a:off x="457200" y="209520"/>
            <a:ext cx="900000" cy="12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Ducks-Strip"/>
          <p:cNvPicPr/>
          <p:nvPr/>
        </p:nvPicPr>
        <p:blipFill>
          <a:blip r:embed="rId2"/>
          <a:stretch/>
        </p:blipFill>
        <p:spPr>
          <a:xfrm>
            <a:off x="455760" y="3252960"/>
            <a:ext cx="8231040" cy="350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228240" y="6244920"/>
            <a:ext cx="624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8, Slide </a:t>
            </a:r>
            <a:fld id="{165D8362-CDCF-4A92-9B2D-7D6DEDD46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3720" y="27936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ahoma"/>
              </a:rPr>
              <a:t>Purchas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586BD5E6-7F7B-433C-A5EF-ADD31BA4B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27400" y="3044880"/>
          <a:ext cx="4454640" cy="2311200"/>
        </p:xfrm>
        <a:graphic>
          <a:graphicData uri="http://schemas.openxmlformats.org/drawingml/2006/table">
            <a:tbl>
              <a:tblPr/>
              <a:tblGrid>
                <a:gridCol w="2228760"/>
                <a:gridCol w="222588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night deli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ay to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wee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</a:tbl>
          </a:graphicData>
        </a:graphic>
      </p:graphicFrame>
      <p:sp>
        <p:nvSpPr>
          <p:cNvPr id="174" name="Text Box 16"/>
          <p:cNvSpPr/>
          <p:nvPr/>
        </p:nvSpPr>
        <p:spPr>
          <a:xfrm>
            <a:off x="3381480" y="262260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Supplier A        Supplie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1538280" y="3067200"/>
            <a:ext cx="1996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Cost per valv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% goo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Delivery </a:t>
            </a:r>
            <a:br>
              <a:rPr sz="2400"/>
            </a:b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lea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693720" y="1778040"/>
            <a:ext cx="78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rcing dialysis machine va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Purchasing is Critica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Impact -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00A39D63-C492-46BD-9004-4EEA9ED7B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693720" y="1700280"/>
            <a:ext cx="81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 of defective dialysis machine va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770040" y="2968560"/>
            <a:ext cx="818028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ruption in patient trea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cheduling difficul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tion in the effective capacity for di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sible medical emergencies</a:t>
            </a:r>
            <a:br>
              <a:rPr sz="2600"/>
            </a:br>
            <a:br>
              <a:rPr sz="2600"/>
            </a:br>
            <a:r>
              <a:rPr b="0" i="1" lang="en-US" sz="2800" spc="-1" strike="noStrike">
                <a:solidFill>
                  <a:srgbClr val="990098"/>
                </a:solidFill>
                <a:latin typeface="Arial"/>
              </a:rPr>
              <a:t>Estimated cost of a failed valve = $1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Purchasing is Critica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Impact -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F3E40225-2411-465B-8731-0C8A705B4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2921040" y="3044880"/>
            <a:ext cx="55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Supplier A                  Supplier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31880" y="3467160"/>
            <a:ext cx="1996920" cy="28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Valve cost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Failure co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Backup inventory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Tota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01480" y="1623960"/>
            <a:ext cx="8372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rcing 50 dialysis machine valv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Total Co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575080" y="3505320"/>
          <a:ext cx="5991120" cy="2587680"/>
        </p:xfrm>
        <a:graphic>
          <a:graphicData uri="http://schemas.openxmlformats.org/drawingml/2006/table">
            <a:tbl>
              <a:tblPr/>
              <a:tblGrid>
                <a:gridCol w="2995560"/>
                <a:gridCol w="2995560"/>
              </a:tblGrid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$10 = $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x $2 = $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 x 50 valves x $1,000 = $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 x 50 valves x $1,000 = $2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valve x $10 = 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lves x $2 = $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6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Purchasing is Critica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Impact -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0CE312BA-58AD-4DCD-9E7A-CD796132C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4149720" y="5497560"/>
            <a:ext cx="3340080" cy="31104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tlement &amp; pay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4149720" y="5970600"/>
            <a:ext cx="3340080" cy="31104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rds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4149720" y="5025960"/>
            <a:ext cx="3340080" cy="31104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pt and insp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4149720" y="4552920"/>
            <a:ext cx="3340080" cy="31104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low up and exped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4149720" y="4079880"/>
            <a:ext cx="3340080" cy="31104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chase order prep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4149720" y="3639960"/>
            <a:ext cx="3340080" cy="31140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lier selection &amp; contra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614520" y="3032280"/>
            <a:ext cx="3340080" cy="50472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lier identificatio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4149720" y="2135160"/>
            <a:ext cx="3340080" cy="31104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0"/>
          <p:cNvSpPr/>
          <p:nvPr/>
        </p:nvSpPr>
        <p:spPr>
          <a:xfrm>
            <a:off x="4149720" y="1662120"/>
            <a:ext cx="3340080" cy="31104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eds 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4149720" y="2546280"/>
            <a:ext cx="34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there a preferred suppli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5800680" y="39290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800680" y="2852640"/>
            <a:ext cx="0" cy="76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2306520" y="2698920"/>
            <a:ext cx="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5800680" y="2470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5800680" y="438948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5800680" y="48499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5800680" y="53499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5800680" y="5810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5800680" y="19699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1"/>
          <p:cNvSpPr/>
          <p:nvPr/>
        </p:nvSpPr>
        <p:spPr>
          <a:xfrm flipH="1">
            <a:off x="2306520" y="2698920"/>
            <a:ext cx="176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3035160" y="2354400"/>
            <a:ext cx="9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62520" y="3006720"/>
            <a:ext cx="96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4"/>
          <p:cNvSpPr/>
          <p:nvPr/>
        </p:nvSpPr>
        <p:spPr>
          <a:xfrm>
            <a:off x="1268280" y="274680"/>
            <a:ext cx="741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 flipV="1">
            <a:off x="2306520" y="3544560"/>
            <a:ext cx="0" cy="23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2306520" y="3774960"/>
            <a:ext cx="18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7"/>
          <p:cNvSpPr/>
          <p:nvPr/>
        </p:nvSpPr>
        <p:spPr>
          <a:xfrm>
            <a:off x="7567560" y="4043520"/>
            <a:ext cx="268200" cy="2265120"/>
          </a:xfrm>
          <a:custGeom>
            <a:avLst/>
            <a:gdLst>
              <a:gd name="textAreaLeft" fmla="*/ 0 w 268200"/>
              <a:gd name="textAreaRight" fmla="*/ 188280 w 268200"/>
              <a:gd name="textAreaTop" fmla="*/ 94320 h 2265120"/>
              <a:gd name="textAreaBottom" fmla="*/ 2170800 h 22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7875720" y="4849920"/>
            <a:ext cx="73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rder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10C82C5B-AA19-47D3-85EB-51DE6035B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346040" y="274680"/>
            <a:ext cx="733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309600" y="1892160"/>
            <a:ext cx="2190600" cy="2803320"/>
            <a:chOff x="309600" y="1892160"/>
            <a:chExt cx="2190600" cy="2803320"/>
          </a:xfrm>
        </p:grpSpPr>
        <p:sp>
          <p:nvSpPr>
            <p:cNvPr id="223" name="AutoShape 4"/>
            <p:cNvSpPr/>
            <p:nvPr/>
          </p:nvSpPr>
          <p:spPr>
            <a:xfrm>
              <a:off x="1063440" y="4225680"/>
              <a:ext cx="712800" cy="1792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5"/>
            <p:cNvSpPr/>
            <p:nvPr/>
          </p:nvSpPr>
          <p:spPr>
            <a:xfrm>
              <a:off x="1063440" y="449856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6"/>
            <p:cNvSpPr/>
            <p:nvPr/>
          </p:nvSpPr>
          <p:spPr>
            <a:xfrm>
              <a:off x="1063440" y="3951000"/>
              <a:ext cx="712800" cy="1792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7"/>
            <p:cNvSpPr/>
            <p:nvPr/>
          </p:nvSpPr>
          <p:spPr>
            <a:xfrm>
              <a:off x="1063440" y="367632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8"/>
            <p:cNvSpPr/>
            <p:nvPr/>
          </p:nvSpPr>
          <p:spPr>
            <a:xfrm>
              <a:off x="1063440" y="340164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9"/>
            <p:cNvSpPr/>
            <p:nvPr/>
          </p:nvSpPr>
          <p:spPr>
            <a:xfrm>
              <a:off x="1063440" y="314604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0"/>
            <p:cNvSpPr/>
            <p:nvPr/>
          </p:nvSpPr>
          <p:spPr>
            <a:xfrm>
              <a:off x="309600" y="2793600"/>
              <a:ext cx="712800" cy="29232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11"/>
            <p:cNvSpPr/>
            <p:nvPr/>
          </p:nvSpPr>
          <p:spPr>
            <a:xfrm>
              <a:off x="1063440" y="2271600"/>
              <a:ext cx="712800" cy="18072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2"/>
            <p:cNvSpPr/>
            <p:nvPr/>
          </p:nvSpPr>
          <p:spPr>
            <a:xfrm>
              <a:off x="426960" y="1892160"/>
              <a:ext cx="2073240" cy="307800"/>
            </a:xfrm>
            <a:prstGeom prst="flowChart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eds 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>
              <a:off x="1415880" y="3314520"/>
              <a:ext cx="0" cy="8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1406520" y="2616120"/>
              <a:ext cx="9360" cy="51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5"/>
            <p:cNvSpPr/>
            <p:nvPr/>
          </p:nvSpPr>
          <p:spPr>
            <a:xfrm>
              <a:off x="669960" y="2599920"/>
              <a:ext cx="1440" cy="1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6"/>
            <p:cNvSpPr/>
            <p:nvPr/>
          </p:nvSpPr>
          <p:spPr>
            <a:xfrm>
              <a:off x="1415880" y="2444400"/>
              <a:ext cx="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7"/>
            <p:cNvSpPr/>
            <p:nvPr/>
          </p:nvSpPr>
          <p:spPr>
            <a:xfrm>
              <a:off x="1415880" y="358128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>
              <a:off x="1415880" y="384768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9"/>
            <p:cNvSpPr/>
            <p:nvPr/>
          </p:nvSpPr>
          <p:spPr>
            <a:xfrm>
              <a:off x="1415880" y="413820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0"/>
            <p:cNvSpPr/>
            <p:nvPr/>
          </p:nvSpPr>
          <p:spPr>
            <a:xfrm>
              <a:off x="1415880" y="4406760"/>
              <a:ext cx="0" cy="8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1"/>
            <p:cNvSpPr/>
            <p:nvPr/>
          </p:nvSpPr>
          <p:spPr>
            <a:xfrm>
              <a:off x="1406520" y="2190600"/>
              <a:ext cx="144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2"/>
            <p:cNvSpPr/>
            <p:nvPr/>
          </p:nvSpPr>
          <p:spPr>
            <a:xfrm flipH="1">
              <a:off x="669960" y="2587320"/>
              <a:ext cx="7365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3"/>
            <p:cNvSpPr/>
            <p:nvPr/>
          </p:nvSpPr>
          <p:spPr>
            <a:xfrm flipH="1" flipV="1">
              <a:off x="669960" y="3090600"/>
              <a:ext cx="144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4"/>
            <p:cNvSpPr/>
            <p:nvPr/>
          </p:nvSpPr>
          <p:spPr>
            <a:xfrm>
              <a:off x="669960" y="3223800"/>
              <a:ext cx="393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25"/>
            <p:cNvSpPr/>
            <p:nvPr/>
          </p:nvSpPr>
          <p:spPr>
            <a:xfrm>
              <a:off x="1792080" y="3381120"/>
              <a:ext cx="57240" cy="1314360"/>
            </a:xfrm>
            <a:custGeom>
              <a:avLst/>
              <a:gdLst>
                <a:gd name="textAreaLeft" fmla="*/ 0 w 57240"/>
                <a:gd name="textAreaRight" fmla="*/ 40320 w 57240"/>
                <a:gd name="textAreaTop" fmla="*/ 54720 h 1314360"/>
                <a:gd name="textAreaBottom" fmla="*/ 1259640 h 13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26"/>
          <p:cNvSpPr/>
          <p:nvPr/>
        </p:nvSpPr>
        <p:spPr>
          <a:xfrm>
            <a:off x="2843280" y="1600200"/>
            <a:ext cx="587520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8"/>
                </a:solidFill>
                <a:latin typeface="Arial"/>
              </a:rPr>
              <a:t>Purchase requisition –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 internal document completed by a user that informs purchasing of a specific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8"/>
                </a:solidFill>
                <a:latin typeface="Arial"/>
              </a:rPr>
              <a:t>Reorder point system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method used to initiate the purchase of routine items. Typically, each item has a predetermined order point and order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8"/>
                </a:solidFill>
                <a:latin typeface="Arial"/>
              </a:rPr>
              <a:t>Statement of Work/Scope of Work (SOW) –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rms and conditions for a purchased service. Includes how supplier will be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478B7B5C-9888-491D-BBB1-090AABD0A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346040" y="274680"/>
            <a:ext cx="737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805120" y="3083040"/>
            <a:ext cx="614664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cription by market grade/industr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cription by b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cription by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cription by 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scription by prototypes or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7760" y="1892160"/>
            <a:ext cx="2111400" cy="2841840"/>
            <a:chOff x="347760" y="1892160"/>
            <a:chExt cx="2111400" cy="2841840"/>
          </a:xfrm>
        </p:grpSpPr>
        <p:sp>
          <p:nvSpPr>
            <p:cNvPr id="251" name="AutoShape 5"/>
            <p:cNvSpPr/>
            <p:nvPr/>
          </p:nvSpPr>
          <p:spPr>
            <a:xfrm>
              <a:off x="1101600" y="4263840"/>
              <a:ext cx="712800" cy="17964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6"/>
            <p:cNvSpPr/>
            <p:nvPr/>
          </p:nvSpPr>
          <p:spPr>
            <a:xfrm>
              <a:off x="1101600" y="453708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7"/>
            <p:cNvSpPr/>
            <p:nvPr/>
          </p:nvSpPr>
          <p:spPr>
            <a:xfrm>
              <a:off x="1101600" y="3989520"/>
              <a:ext cx="712800" cy="1792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8"/>
            <p:cNvSpPr/>
            <p:nvPr/>
          </p:nvSpPr>
          <p:spPr>
            <a:xfrm>
              <a:off x="1101600" y="3714840"/>
              <a:ext cx="712800" cy="18072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9"/>
            <p:cNvSpPr/>
            <p:nvPr/>
          </p:nvSpPr>
          <p:spPr>
            <a:xfrm>
              <a:off x="1101600" y="3440160"/>
              <a:ext cx="712800" cy="18072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0"/>
            <p:cNvSpPr/>
            <p:nvPr/>
          </p:nvSpPr>
          <p:spPr>
            <a:xfrm>
              <a:off x="1101600" y="318456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1"/>
            <p:cNvSpPr/>
            <p:nvPr/>
          </p:nvSpPr>
          <p:spPr>
            <a:xfrm>
              <a:off x="347760" y="2832120"/>
              <a:ext cx="712800" cy="29196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12"/>
            <p:cNvSpPr/>
            <p:nvPr/>
          </p:nvSpPr>
          <p:spPr>
            <a:xfrm>
              <a:off x="1076400" y="189216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13"/>
            <p:cNvSpPr/>
            <p:nvPr/>
          </p:nvSpPr>
          <p:spPr>
            <a:xfrm>
              <a:off x="385920" y="2160720"/>
              <a:ext cx="2073240" cy="307800"/>
            </a:xfrm>
            <a:prstGeom prst="flowChart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4"/>
            <p:cNvSpPr/>
            <p:nvPr/>
          </p:nvSpPr>
          <p:spPr>
            <a:xfrm>
              <a:off x="1454040" y="3352680"/>
              <a:ext cx="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5"/>
            <p:cNvSpPr/>
            <p:nvPr/>
          </p:nvSpPr>
          <p:spPr>
            <a:xfrm>
              <a:off x="1444680" y="2654280"/>
              <a:ext cx="9360" cy="51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6"/>
            <p:cNvSpPr/>
            <p:nvPr/>
          </p:nvSpPr>
          <p:spPr>
            <a:xfrm>
              <a:off x="708120" y="2638440"/>
              <a:ext cx="1440" cy="1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7"/>
            <p:cNvSpPr/>
            <p:nvPr/>
          </p:nvSpPr>
          <p:spPr>
            <a:xfrm>
              <a:off x="1422360" y="2495520"/>
              <a:ext cx="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>
              <a:off x="1454040" y="361944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9"/>
            <p:cNvSpPr/>
            <p:nvPr/>
          </p:nvSpPr>
          <p:spPr>
            <a:xfrm>
              <a:off x="1454040" y="388620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0"/>
            <p:cNvSpPr/>
            <p:nvPr/>
          </p:nvSpPr>
          <p:spPr>
            <a:xfrm>
              <a:off x="1454040" y="417672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1"/>
            <p:cNvSpPr/>
            <p:nvPr/>
          </p:nvSpPr>
          <p:spPr>
            <a:xfrm>
              <a:off x="1454040" y="4444920"/>
              <a:ext cx="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2"/>
            <p:cNvSpPr/>
            <p:nvPr/>
          </p:nvSpPr>
          <p:spPr>
            <a:xfrm>
              <a:off x="1422360" y="2084400"/>
              <a:ext cx="180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3"/>
            <p:cNvSpPr/>
            <p:nvPr/>
          </p:nvSpPr>
          <p:spPr>
            <a:xfrm flipH="1">
              <a:off x="708120" y="2625840"/>
              <a:ext cx="7365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4"/>
            <p:cNvSpPr/>
            <p:nvPr/>
          </p:nvSpPr>
          <p:spPr>
            <a:xfrm flipH="1" flipV="1">
              <a:off x="708120" y="3128400"/>
              <a:ext cx="1440" cy="1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25"/>
            <p:cNvSpPr/>
            <p:nvPr/>
          </p:nvSpPr>
          <p:spPr>
            <a:xfrm>
              <a:off x="708120" y="3262320"/>
              <a:ext cx="393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6"/>
            <p:cNvSpPr/>
            <p:nvPr/>
          </p:nvSpPr>
          <p:spPr>
            <a:xfrm>
              <a:off x="1830600" y="3419280"/>
              <a:ext cx="56880" cy="1314720"/>
            </a:xfrm>
            <a:custGeom>
              <a:avLst/>
              <a:gdLst>
                <a:gd name="textAreaLeft" fmla="*/ 0 w 56880"/>
                <a:gd name="textAreaRight" fmla="*/ 39960 w 56880"/>
                <a:gd name="textAreaTop" fmla="*/ 54720 h 1314720"/>
                <a:gd name="textAreaBottom" fmla="*/ 1260000 h 131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27"/>
          <p:cNvSpPr/>
          <p:nvPr/>
        </p:nvSpPr>
        <p:spPr>
          <a:xfrm>
            <a:off x="2651040" y="1739880"/>
            <a:ext cx="6183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8"/>
                </a:solidFill>
                <a:latin typeface="Arial"/>
              </a:rPr>
              <a:t>The communication of a user’s needs to potential suppliers in the most efficient and accurate way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949A70CB-2F90-44FD-B60F-60176D23C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1346040" y="274680"/>
            <a:ext cx="779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0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ier Identification and Evaluation -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193680" y="1778040"/>
            <a:ext cx="3152880" cy="2689200"/>
            <a:chOff x="193680" y="1778040"/>
            <a:chExt cx="3152880" cy="2689200"/>
          </a:xfrm>
        </p:grpSpPr>
        <p:sp>
          <p:nvSpPr>
            <p:cNvPr id="278" name="AutoShape 4"/>
            <p:cNvSpPr/>
            <p:nvPr/>
          </p:nvSpPr>
          <p:spPr>
            <a:xfrm>
              <a:off x="2554560" y="177804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5"/>
            <p:cNvSpPr/>
            <p:nvPr/>
          </p:nvSpPr>
          <p:spPr>
            <a:xfrm>
              <a:off x="2560680" y="3997440"/>
              <a:ext cx="712800" cy="1792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2560680" y="427032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2560680" y="3722760"/>
              <a:ext cx="712800" cy="1792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8"/>
            <p:cNvSpPr/>
            <p:nvPr/>
          </p:nvSpPr>
          <p:spPr>
            <a:xfrm>
              <a:off x="2560680" y="344808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9"/>
            <p:cNvSpPr/>
            <p:nvPr/>
          </p:nvSpPr>
          <p:spPr>
            <a:xfrm>
              <a:off x="2560680" y="317340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10"/>
            <p:cNvSpPr/>
            <p:nvPr/>
          </p:nvSpPr>
          <p:spPr>
            <a:xfrm>
              <a:off x="2560680" y="291780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11"/>
            <p:cNvSpPr/>
            <p:nvPr/>
          </p:nvSpPr>
          <p:spPr>
            <a:xfrm>
              <a:off x="2560680" y="2043360"/>
              <a:ext cx="712800" cy="18072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2"/>
            <p:cNvSpPr/>
            <p:nvPr/>
          </p:nvSpPr>
          <p:spPr>
            <a:xfrm>
              <a:off x="2913120" y="3086280"/>
              <a:ext cx="0" cy="8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>
              <a:off x="2903760" y="2387880"/>
              <a:ext cx="9360" cy="51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4"/>
            <p:cNvSpPr/>
            <p:nvPr/>
          </p:nvSpPr>
          <p:spPr>
            <a:xfrm flipH="1">
              <a:off x="2152800" y="2314800"/>
              <a:ext cx="22320" cy="11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5"/>
            <p:cNvSpPr/>
            <p:nvPr/>
          </p:nvSpPr>
          <p:spPr>
            <a:xfrm>
              <a:off x="2913120" y="2216160"/>
              <a:ext cx="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6"/>
            <p:cNvSpPr/>
            <p:nvPr/>
          </p:nvSpPr>
          <p:spPr>
            <a:xfrm>
              <a:off x="2913120" y="335304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>
              <a:off x="2913120" y="361944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>
              <a:off x="2913120" y="390996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>
              <a:off x="2913120" y="4178520"/>
              <a:ext cx="0" cy="8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20"/>
            <p:cNvSpPr/>
            <p:nvPr/>
          </p:nvSpPr>
          <p:spPr>
            <a:xfrm>
              <a:off x="2903760" y="1962360"/>
              <a:ext cx="144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1"/>
            <p:cNvSpPr/>
            <p:nvPr/>
          </p:nvSpPr>
          <p:spPr>
            <a:xfrm flipH="1">
              <a:off x="2152800" y="2314800"/>
              <a:ext cx="7365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2"/>
            <p:cNvSpPr/>
            <p:nvPr/>
          </p:nvSpPr>
          <p:spPr>
            <a:xfrm flipH="1" flipV="1">
              <a:off x="2167200" y="2862360"/>
              <a:ext cx="144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3"/>
            <p:cNvSpPr/>
            <p:nvPr/>
          </p:nvSpPr>
          <p:spPr>
            <a:xfrm>
              <a:off x="2167200" y="2995560"/>
              <a:ext cx="393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24"/>
            <p:cNvSpPr/>
            <p:nvPr/>
          </p:nvSpPr>
          <p:spPr>
            <a:xfrm>
              <a:off x="3289320" y="3152880"/>
              <a:ext cx="57240" cy="1314360"/>
            </a:xfrm>
            <a:custGeom>
              <a:avLst/>
              <a:gdLst>
                <a:gd name="textAreaLeft" fmla="*/ 0 w 57240"/>
                <a:gd name="textAreaRight" fmla="*/ 40320 w 57240"/>
                <a:gd name="textAreaTop" fmla="*/ 54720 h 1314360"/>
                <a:gd name="textAreaBottom" fmla="*/ 1259640 h 13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25"/>
            <p:cNvSpPr/>
            <p:nvPr/>
          </p:nvSpPr>
          <p:spPr>
            <a:xfrm>
              <a:off x="193680" y="2430720"/>
              <a:ext cx="2303640" cy="504720"/>
            </a:xfrm>
            <a:prstGeom prst="flowChart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pplier identification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evalu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26"/>
          <p:cNvSpPr/>
          <p:nvPr/>
        </p:nvSpPr>
        <p:spPr>
          <a:xfrm>
            <a:off x="3919680" y="2738520"/>
            <a:ext cx="476244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complexity of the produc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r service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amount of money that 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ommitted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length of the propos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uyer-supplier relationshi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7"/>
          <p:cNvSpPr/>
          <p:nvPr/>
        </p:nvSpPr>
        <p:spPr>
          <a:xfrm>
            <a:off x="3419640" y="2276640"/>
            <a:ext cx="560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8"/>
                </a:solidFill>
                <a:latin typeface="Arial"/>
              </a:rPr>
              <a:t>The amount of effort increases 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278F77E6-9AA6-4590-ACCE-28A7ED607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2"/>
          <p:cNvGrpSpPr/>
          <p:nvPr/>
        </p:nvGrpSpPr>
        <p:grpSpPr>
          <a:xfrm>
            <a:off x="193680" y="1778040"/>
            <a:ext cx="3152880" cy="2689200"/>
            <a:chOff x="193680" y="1778040"/>
            <a:chExt cx="3152880" cy="2689200"/>
          </a:xfrm>
        </p:grpSpPr>
        <p:sp>
          <p:nvSpPr>
            <p:cNvPr id="305" name="AutoShape 3"/>
            <p:cNvSpPr/>
            <p:nvPr/>
          </p:nvSpPr>
          <p:spPr>
            <a:xfrm>
              <a:off x="2554560" y="177804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4"/>
            <p:cNvSpPr/>
            <p:nvPr/>
          </p:nvSpPr>
          <p:spPr>
            <a:xfrm>
              <a:off x="2560680" y="3997440"/>
              <a:ext cx="712800" cy="1792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5"/>
            <p:cNvSpPr/>
            <p:nvPr/>
          </p:nvSpPr>
          <p:spPr>
            <a:xfrm>
              <a:off x="2560680" y="427032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6"/>
            <p:cNvSpPr/>
            <p:nvPr/>
          </p:nvSpPr>
          <p:spPr>
            <a:xfrm>
              <a:off x="2560680" y="3722760"/>
              <a:ext cx="712800" cy="1792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7"/>
            <p:cNvSpPr/>
            <p:nvPr/>
          </p:nvSpPr>
          <p:spPr>
            <a:xfrm>
              <a:off x="2560680" y="344808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8"/>
            <p:cNvSpPr/>
            <p:nvPr/>
          </p:nvSpPr>
          <p:spPr>
            <a:xfrm>
              <a:off x="2560680" y="317340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9"/>
            <p:cNvSpPr/>
            <p:nvPr/>
          </p:nvSpPr>
          <p:spPr>
            <a:xfrm>
              <a:off x="2560680" y="291780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"/>
            <p:cNvSpPr/>
            <p:nvPr/>
          </p:nvSpPr>
          <p:spPr>
            <a:xfrm>
              <a:off x="2560680" y="2043360"/>
              <a:ext cx="712800" cy="18072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1"/>
            <p:cNvSpPr/>
            <p:nvPr/>
          </p:nvSpPr>
          <p:spPr>
            <a:xfrm>
              <a:off x="2913120" y="3086280"/>
              <a:ext cx="0" cy="8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2"/>
            <p:cNvSpPr/>
            <p:nvPr/>
          </p:nvSpPr>
          <p:spPr>
            <a:xfrm>
              <a:off x="2903760" y="2387880"/>
              <a:ext cx="9360" cy="51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3"/>
            <p:cNvSpPr/>
            <p:nvPr/>
          </p:nvSpPr>
          <p:spPr>
            <a:xfrm flipH="1">
              <a:off x="2152800" y="2314800"/>
              <a:ext cx="22320" cy="11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2913120" y="2216160"/>
              <a:ext cx="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5"/>
            <p:cNvSpPr/>
            <p:nvPr/>
          </p:nvSpPr>
          <p:spPr>
            <a:xfrm>
              <a:off x="2913120" y="335304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6"/>
            <p:cNvSpPr/>
            <p:nvPr/>
          </p:nvSpPr>
          <p:spPr>
            <a:xfrm>
              <a:off x="2913120" y="361944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7"/>
            <p:cNvSpPr/>
            <p:nvPr/>
          </p:nvSpPr>
          <p:spPr>
            <a:xfrm>
              <a:off x="2913120" y="390996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8"/>
            <p:cNvSpPr/>
            <p:nvPr/>
          </p:nvSpPr>
          <p:spPr>
            <a:xfrm>
              <a:off x="2913120" y="4178520"/>
              <a:ext cx="0" cy="8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9"/>
            <p:cNvSpPr/>
            <p:nvPr/>
          </p:nvSpPr>
          <p:spPr>
            <a:xfrm>
              <a:off x="2903760" y="1962360"/>
              <a:ext cx="144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0"/>
            <p:cNvSpPr/>
            <p:nvPr/>
          </p:nvSpPr>
          <p:spPr>
            <a:xfrm flipH="1">
              <a:off x="2152800" y="2314800"/>
              <a:ext cx="7365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1"/>
            <p:cNvSpPr/>
            <p:nvPr/>
          </p:nvSpPr>
          <p:spPr>
            <a:xfrm flipH="1" flipV="1">
              <a:off x="2167200" y="2862360"/>
              <a:ext cx="144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2"/>
            <p:cNvSpPr/>
            <p:nvPr/>
          </p:nvSpPr>
          <p:spPr>
            <a:xfrm>
              <a:off x="2167200" y="2995560"/>
              <a:ext cx="393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23"/>
            <p:cNvSpPr/>
            <p:nvPr/>
          </p:nvSpPr>
          <p:spPr>
            <a:xfrm>
              <a:off x="3289320" y="3152880"/>
              <a:ext cx="57240" cy="1314360"/>
            </a:xfrm>
            <a:custGeom>
              <a:avLst/>
              <a:gdLst>
                <a:gd name="textAreaLeft" fmla="*/ 0 w 57240"/>
                <a:gd name="textAreaRight" fmla="*/ 40320 w 57240"/>
                <a:gd name="textAreaTop" fmla="*/ 54720 h 1314360"/>
                <a:gd name="textAreaBottom" fmla="*/ 1259640 h 13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24"/>
            <p:cNvSpPr/>
            <p:nvPr/>
          </p:nvSpPr>
          <p:spPr>
            <a:xfrm>
              <a:off x="193680" y="2430720"/>
              <a:ext cx="2303640" cy="504720"/>
            </a:xfrm>
            <a:prstGeom prst="flowChart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pplier identification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evalu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25"/>
          <p:cNvSpPr/>
          <p:nvPr/>
        </p:nvSpPr>
        <p:spPr>
          <a:xfrm>
            <a:off x="4071960" y="2660760"/>
            <a:ext cx="483876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 and design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agement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ncial condition and cos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nning and contro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vironmental regulation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nger-term relationship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6"/>
          <p:cNvSpPr/>
          <p:nvPr/>
        </p:nvSpPr>
        <p:spPr>
          <a:xfrm>
            <a:off x="3841920" y="1662120"/>
            <a:ext cx="4760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8"/>
                </a:solidFill>
                <a:latin typeface="Arial"/>
              </a:rPr>
              <a:t>Criteria for supplier assessmen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1308240" y="274680"/>
            <a:ext cx="7835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0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ier Identification and Evaluation - 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6D91C8A5-27E7-4D48-97B6-D14EC19DC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"/>
          <p:cNvSpPr/>
          <p:nvPr/>
        </p:nvSpPr>
        <p:spPr>
          <a:xfrm>
            <a:off x="1133640" y="17398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"/>
          <p:cNvSpPr/>
          <p:nvPr/>
        </p:nvSpPr>
        <p:spPr>
          <a:xfrm>
            <a:off x="1154160" y="413712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1154160" y="441000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1154160" y="386244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1154160" y="358776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/>
          <p:cNvSpPr/>
          <p:nvPr/>
        </p:nvSpPr>
        <p:spPr>
          <a:xfrm>
            <a:off x="1154160" y="33130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8"/>
          <p:cNvSpPr/>
          <p:nvPr/>
        </p:nvSpPr>
        <p:spPr>
          <a:xfrm>
            <a:off x="385920" y="2527200"/>
            <a:ext cx="712800" cy="29232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1139760" y="200484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1498680" y="32162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"/>
          <p:cNvSpPr/>
          <p:nvPr/>
        </p:nvSpPr>
        <p:spPr>
          <a:xfrm>
            <a:off x="1482840" y="2349360"/>
            <a:ext cx="17280" cy="57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746280" y="2333520"/>
            <a:ext cx="1440" cy="177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1492200" y="217800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1506600" y="349236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1506600" y="375912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1506600" y="404964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1506600" y="43178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>
            <a:off x="1482840" y="1924200"/>
            <a:ext cx="144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 flipH="1">
            <a:off x="746280" y="2320920"/>
            <a:ext cx="7365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0"/>
          <p:cNvSpPr/>
          <p:nvPr/>
        </p:nvSpPr>
        <p:spPr>
          <a:xfrm>
            <a:off x="1882800" y="3292560"/>
            <a:ext cx="57240" cy="1314360"/>
          </a:xfrm>
          <a:custGeom>
            <a:avLst/>
            <a:gdLst>
              <a:gd name="textAreaLeft" fmla="*/ 0 w 57240"/>
              <a:gd name="textAreaRight" fmla="*/ 40320 w 57240"/>
              <a:gd name="textAreaTop" fmla="*/ 54720 h 1314360"/>
              <a:gd name="textAreaBottom" fmla="*/ 1259640 h 13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1"/>
          <p:cNvSpPr/>
          <p:nvPr/>
        </p:nvSpPr>
        <p:spPr>
          <a:xfrm>
            <a:off x="228600" y="2895480"/>
            <a:ext cx="2819520" cy="304920"/>
          </a:xfrm>
          <a:prstGeom prst="flowChart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upplier selection &amp; contra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731880" y="28526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3505320" y="1828800"/>
            <a:ext cx="472428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 bi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-price 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-based 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4"/>
          <p:cNvSpPr/>
          <p:nvPr/>
        </p:nvSpPr>
        <p:spPr>
          <a:xfrm>
            <a:off x="1346040" y="274680"/>
            <a:ext cx="779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0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ier Selection -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5F8B37C2-DA9D-48A6-8D1E-021AC2321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"/>
          <p:cNvSpPr/>
          <p:nvPr/>
        </p:nvSpPr>
        <p:spPr>
          <a:xfrm>
            <a:off x="1133640" y="17398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"/>
          <p:cNvSpPr/>
          <p:nvPr/>
        </p:nvSpPr>
        <p:spPr>
          <a:xfrm>
            <a:off x="1154160" y="413712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1154160" y="441000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1154160" y="386244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1154160" y="358776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1154160" y="33130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8"/>
          <p:cNvSpPr/>
          <p:nvPr/>
        </p:nvSpPr>
        <p:spPr>
          <a:xfrm>
            <a:off x="385920" y="2527200"/>
            <a:ext cx="712800" cy="29232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/>
          <p:cNvSpPr/>
          <p:nvPr/>
        </p:nvSpPr>
        <p:spPr>
          <a:xfrm>
            <a:off x="1139760" y="200484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0"/>
          <p:cNvSpPr/>
          <p:nvPr/>
        </p:nvSpPr>
        <p:spPr>
          <a:xfrm>
            <a:off x="1498680" y="32162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1"/>
          <p:cNvSpPr/>
          <p:nvPr/>
        </p:nvSpPr>
        <p:spPr>
          <a:xfrm>
            <a:off x="1482840" y="2349360"/>
            <a:ext cx="17280" cy="57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746280" y="2333520"/>
            <a:ext cx="1440" cy="177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3"/>
          <p:cNvSpPr/>
          <p:nvPr/>
        </p:nvSpPr>
        <p:spPr>
          <a:xfrm>
            <a:off x="1492200" y="217800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4"/>
          <p:cNvSpPr/>
          <p:nvPr/>
        </p:nvSpPr>
        <p:spPr>
          <a:xfrm>
            <a:off x="1506600" y="349236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5"/>
          <p:cNvSpPr/>
          <p:nvPr/>
        </p:nvSpPr>
        <p:spPr>
          <a:xfrm>
            <a:off x="1506600" y="375912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1506600" y="404964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7"/>
          <p:cNvSpPr/>
          <p:nvPr/>
        </p:nvSpPr>
        <p:spPr>
          <a:xfrm>
            <a:off x="1506600" y="43178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8"/>
          <p:cNvSpPr/>
          <p:nvPr/>
        </p:nvSpPr>
        <p:spPr>
          <a:xfrm>
            <a:off x="1482840" y="1924200"/>
            <a:ext cx="144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9"/>
          <p:cNvSpPr/>
          <p:nvPr/>
        </p:nvSpPr>
        <p:spPr>
          <a:xfrm flipH="1">
            <a:off x="746280" y="2320920"/>
            <a:ext cx="7365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0"/>
          <p:cNvSpPr/>
          <p:nvPr/>
        </p:nvSpPr>
        <p:spPr>
          <a:xfrm>
            <a:off x="1882800" y="3292560"/>
            <a:ext cx="57240" cy="1314360"/>
          </a:xfrm>
          <a:custGeom>
            <a:avLst/>
            <a:gdLst>
              <a:gd name="textAreaLeft" fmla="*/ 0 w 57240"/>
              <a:gd name="textAreaRight" fmla="*/ 40320 w 57240"/>
              <a:gd name="textAreaTop" fmla="*/ 54720 h 1314360"/>
              <a:gd name="textAreaBottom" fmla="*/ 1259640 h 13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2"/>
          <p:cNvSpPr/>
          <p:nvPr/>
        </p:nvSpPr>
        <p:spPr>
          <a:xfrm>
            <a:off x="731880" y="28526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3"/>
          <p:cNvSpPr/>
          <p:nvPr/>
        </p:nvSpPr>
        <p:spPr>
          <a:xfrm>
            <a:off x="3200400" y="2008080"/>
            <a:ext cx="563400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8"/>
                </a:solidFill>
                <a:latin typeface="Arial"/>
              </a:rPr>
              <a:t>Preferred suppli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pplier that has demonstrated its performance capabilities through previous purchase contracts and therefore receives preference during the supplier selec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4"/>
          <p:cNvSpPr/>
          <p:nvPr/>
        </p:nvSpPr>
        <p:spPr>
          <a:xfrm>
            <a:off x="1308240" y="274680"/>
            <a:ext cx="7835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0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ier Selection - 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26"/>
          <p:cNvSpPr/>
          <p:nvPr/>
        </p:nvSpPr>
        <p:spPr>
          <a:xfrm>
            <a:off x="228600" y="2895480"/>
            <a:ext cx="2819520" cy="304920"/>
          </a:xfrm>
          <a:prstGeom prst="flowChart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upplier selection &amp; contra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C910A6D7-DC7A-4C3B-9D7E-117D58985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 able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strong case for why purchasing is a critical part of a firm’s supply chain strate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describe the various steps of the purchasing process, and discuss how this process will vary according to the type of good or service being purcha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 spend analysis is important and perform a simple spend ana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D4FD1469-45A0-4EA1-846B-0EB26CB10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"/>
          <p:cNvSpPr/>
          <p:nvPr/>
        </p:nvSpPr>
        <p:spPr>
          <a:xfrm>
            <a:off x="1133640" y="17398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1154160" y="413712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4"/>
          <p:cNvSpPr/>
          <p:nvPr/>
        </p:nvSpPr>
        <p:spPr>
          <a:xfrm>
            <a:off x="1154160" y="441000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1154160" y="386244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1154160" y="358776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1154160" y="33130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385920" y="2527200"/>
            <a:ext cx="712800" cy="29232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1139760" y="200484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0"/>
          <p:cNvSpPr/>
          <p:nvPr/>
        </p:nvSpPr>
        <p:spPr>
          <a:xfrm>
            <a:off x="1498680" y="32162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1"/>
          <p:cNvSpPr/>
          <p:nvPr/>
        </p:nvSpPr>
        <p:spPr>
          <a:xfrm>
            <a:off x="1482840" y="2349360"/>
            <a:ext cx="17280" cy="57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2"/>
          <p:cNvSpPr/>
          <p:nvPr/>
        </p:nvSpPr>
        <p:spPr>
          <a:xfrm>
            <a:off x="746280" y="2333520"/>
            <a:ext cx="1440" cy="177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3"/>
          <p:cNvSpPr/>
          <p:nvPr/>
        </p:nvSpPr>
        <p:spPr>
          <a:xfrm>
            <a:off x="1492200" y="217800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4"/>
          <p:cNvSpPr/>
          <p:nvPr/>
        </p:nvSpPr>
        <p:spPr>
          <a:xfrm>
            <a:off x="1506600" y="349236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5"/>
          <p:cNvSpPr/>
          <p:nvPr/>
        </p:nvSpPr>
        <p:spPr>
          <a:xfrm>
            <a:off x="1506600" y="375912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6"/>
          <p:cNvSpPr/>
          <p:nvPr/>
        </p:nvSpPr>
        <p:spPr>
          <a:xfrm>
            <a:off x="1506600" y="404964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7"/>
          <p:cNvSpPr/>
          <p:nvPr/>
        </p:nvSpPr>
        <p:spPr>
          <a:xfrm>
            <a:off x="1506600" y="43178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8"/>
          <p:cNvSpPr/>
          <p:nvPr/>
        </p:nvSpPr>
        <p:spPr>
          <a:xfrm>
            <a:off x="1482840" y="1924200"/>
            <a:ext cx="144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9"/>
          <p:cNvSpPr/>
          <p:nvPr/>
        </p:nvSpPr>
        <p:spPr>
          <a:xfrm flipH="1">
            <a:off x="746280" y="2320920"/>
            <a:ext cx="7365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0"/>
          <p:cNvSpPr/>
          <p:nvPr/>
        </p:nvSpPr>
        <p:spPr>
          <a:xfrm>
            <a:off x="1882800" y="3292560"/>
            <a:ext cx="57240" cy="1314360"/>
          </a:xfrm>
          <a:custGeom>
            <a:avLst/>
            <a:gdLst>
              <a:gd name="textAreaLeft" fmla="*/ 0 w 57240"/>
              <a:gd name="textAreaRight" fmla="*/ 40320 w 57240"/>
              <a:gd name="textAreaTop" fmla="*/ 54720 h 1314360"/>
              <a:gd name="textAreaBottom" fmla="*/ 1259640 h 13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2"/>
          <p:cNvSpPr/>
          <p:nvPr/>
        </p:nvSpPr>
        <p:spPr>
          <a:xfrm>
            <a:off x="731880" y="28526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3"/>
          <p:cNvSpPr/>
          <p:nvPr/>
        </p:nvSpPr>
        <p:spPr>
          <a:xfrm>
            <a:off x="3112920" y="2776680"/>
            <a:ext cx="549288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uying firm can provide qualified suppliers with clear descriptions of the item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me is high enough to justify the cost and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m does not have a preferred supp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4"/>
          <p:cNvSpPr/>
          <p:nvPr/>
        </p:nvSpPr>
        <p:spPr>
          <a:xfrm>
            <a:off x="2959200" y="1739880"/>
            <a:ext cx="595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8"/>
                </a:solidFill>
                <a:latin typeface="Arial"/>
              </a:rPr>
              <a:t>Competitive bidding is most effective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5"/>
          <p:cNvSpPr/>
          <p:nvPr/>
        </p:nvSpPr>
        <p:spPr>
          <a:xfrm>
            <a:off x="1268280" y="274680"/>
            <a:ext cx="787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0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ier Selection - II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7"/>
          <p:cNvSpPr/>
          <p:nvPr/>
        </p:nvSpPr>
        <p:spPr>
          <a:xfrm>
            <a:off x="228600" y="2895480"/>
            <a:ext cx="2819520" cy="304920"/>
          </a:xfrm>
          <a:prstGeom prst="flowChart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upplier selection &amp; contra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779B4E5F-B953-4A67-9FC6-D99A2FA34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"/>
          <p:cNvSpPr/>
          <p:nvPr/>
        </p:nvSpPr>
        <p:spPr>
          <a:xfrm>
            <a:off x="1133640" y="17398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3"/>
          <p:cNvSpPr/>
          <p:nvPr/>
        </p:nvSpPr>
        <p:spPr>
          <a:xfrm>
            <a:off x="1154160" y="413712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4"/>
          <p:cNvSpPr/>
          <p:nvPr/>
        </p:nvSpPr>
        <p:spPr>
          <a:xfrm>
            <a:off x="1154160" y="441000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5"/>
          <p:cNvSpPr/>
          <p:nvPr/>
        </p:nvSpPr>
        <p:spPr>
          <a:xfrm>
            <a:off x="1154160" y="386244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6"/>
          <p:cNvSpPr/>
          <p:nvPr/>
        </p:nvSpPr>
        <p:spPr>
          <a:xfrm>
            <a:off x="1154160" y="358776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7"/>
          <p:cNvSpPr/>
          <p:nvPr/>
        </p:nvSpPr>
        <p:spPr>
          <a:xfrm>
            <a:off x="1154160" y="33130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8"/>
          <p:cNvSpPr/>
          <p:nvPr/>
        </p:nvSpPr>
        <p:spPr>
          <a:xfrm>
            <a:off x="385920" y="2527200"/>
            <a:ext cx="712800" cy="29232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9"/>
          <p:cNvSpPr/>
          <p:nvPr/>
        </p:nvSpPr>
        <p:spPr>
          <a:xfrm>
            <a:off x="1139760" y="200484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1498680" y="32162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"/>
          <p:cNvSpPr/>
          <p:nvPr/>
        </p:nvSpPr>
        <p:spPr>
          <a:xfrm>
            <a:off x="1482840" y="2349360"/>
            <a:ext cx="17280" cy="57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746280" y="2333520"/>
            <a:ext cx="1440" cy="177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1492200" y="217800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4"/>
          <p:cNvSpPr/>
          <p:nvPr/>
        </p:nvSpPr>
        <p:spPr>
          <a:xfrm>
            <a:off x="1506600" y="349236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5"/>
          <p:cNvSpPr/>
          <p:nvPr/>
        </p:nvSpPr>
        <p:spPr>
          <a:xfrm>
            <a:off x="1506600" y="375912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6"/>
          <p:cNvSpPr/>
          <p:nvPr/>
        </p:nvSpPr>
        <p:spPr>
          <a:xfrm>
            <a:off x="1506600" y="404964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7"/>
          <p:cNvSpPr/>
          <p:nvPr/>
        </p:nvSpPr>
        <p:spPr>
          <a:xfrm>
            <a:off x="1506600" y="43178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8"/>
          <p:cNvSpPr/>
          <p:nvPr/>
        </p:nvSpPr>
        <p:spPr>
          <a:xfrm>
            <a:off x="1482840" y="1924200"/>
            <a:ext cx="144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9"/>
          <p:cNvSpPr/>
          <p:nvPr/>
        </p:nvSpPr>
        <p:spPr>
          <a:xfrm flipH="1">
            <a:off x="746280" y="2320920"/>
            <a:ext cx="7365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0"/>
          <p:cNvSpPr/>
          <p:nvPr/>
        </p:nvSpPr>
        <p:spPr>
          <a:xfrm>
            <a:off x="1882800" y="3292560"/>
            <a:ext cx="57240" cy="1314360"/>
          </a:xfrm>
          <a:custGeom>
            <a:avLst/>
            <a:gdLst>
              <a:gd name="textAreaLeft" fmla="*/ 0 w 57240"/>
              <a:gd name="textAreaRight" fmla="*/ 40320 w 57240"/>
              <a:gd name="textAreaTop" fmla="*/ 54720 h 1314360"/>
              <a:gd name="textAreaBottom" fmla="*/ 1259640 h 13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22"/>
          <p:cNvSpPr/>
          <p:nvPr/>
        </p:nvSpPr>
        <p:spPr>
          <a:xfrm>
            <a:off x="731880" y="28526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3"/>
          <p:cNvSpPr/>
          <p:nvPr/>
        </p:nvSpPr>
        <p:spPr>
          <a:xfrm>
            <a:off x="3035160" y="2546280"/>
            <a:ext cx="583740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item is new or technically complex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with only vague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purchase requires agreement about a wide range of performance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supplier must participate in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developmen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supplier cannot determine risk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nd costs without input from the bu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4"/>
          <p:cNvSpPr/>
          <p:nvPr/>
        </p:nvSpPr>
        <p:spPr>
          <a:xfrm>
            <a:off x="2590920" y="1766880"/>
            <a:ext cx="63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8"/>
                </a:solidFill>
                <a:latin typeface="Arial"/>
              </a:rPr>
              <a:t>Negotiation is most effective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1308240" y="274680"/>
            <a:ext cx="7835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0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ier Selection - 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7"/>
          <p:cNvSpPr/>
          <p:nvPr/>
        </p:nvSpPr>
        <p:spPr>
          <a:xfrm>
            <a:off x="228600" y="2895480"/>
            <a:ext cx="2819520" cy="304920"/>
          </a:xfrm>
          <a:prstGeom prst="flowChart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upplier selection &amp; contra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FE97A712-907A-4990-8DE9-3E5BF7A90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2"/>
          <p:cNvSpPr/>
          <p:nvPr/>
        </p:nvSpPr>
        <p:spPr>
          <a:xfrm>
            <a:off x="1133640" y="17398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1154160" y="413712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1154160" y="441000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154160" y="3862440"/>
            <a:ext cx="712800" cy="1792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1154160" y="358776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154160" y="331308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385920" y="2527200"/>
            <a:ext cx="712800" cy="29232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1139760" y="2004840"/>
            <a:ext cx="712800" cy="181080"/>
          </a:xfrm>
          <a:prstGeom prst="flowChartProcess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0"/>
          <p:cNvSpPr/>
          <p:nvPr/>
        </p:nvSpPr>
        <p:spPr>
          <a:xfrm>
            <a:off x="1498680" y="32162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1"/>
          <p:cNvSpPr/>
          <p:nvPr/>
        </p:nvSpPr>
        <p:spPr>
          <a:xfrm>
            <a:off x="1482840" y="2349360"/>
            <a:ext cx="17280" cy="57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2"/>
          <p:cNvSpPr/>
          <p:nvPr/>
        </p:nvSpPr>
        <p:spPr>
          <a:xfrm>
            <a:off x="746280" y="2333520"/>
            <a:ext cx="1440" cy="177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3"/>
          <p:cNvSpPr/>
          <p:nvPr/>
        </p:nvSpPr>
        <p:spPr>
          <a:xfrm>
            <a:off x="1492200" y="217800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"/>
          <p:cNvSpPr/>
          <p:nvPr/>
        </p:nvSpPr>
        <p:spPr>
          <a:xfrm>
            <a:off x="1506600" y="349236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5"/>
          <p:cNvSpPr/>
          <p:nvPr/>
        </p:nvSpPr>
        <p:spPr>
          <a:xfrm>
            <a:off x="1506600" y="375912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6"/>
          <p:cNvSpPr/>
          <p:nvPr/>
        </p:nvSpPr>
        <p:spPr>
          <a:xfrm>
            <a:off x="1506600" y="404964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7"/>
          <p:cNvSpPr/>
          <p:nvPr/>
        </p:nvSpPr>
        <p:spPr>
          <a:xfrm>
            <a:off x="1506600" y="43178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8"/>
          <p:cNvSpPr/>
          <p:nvPr/>
        </p:nvSpPr>
        <p:spPr>
          <a:xfrm>
            <a:off x="1482840" y="1924200"/>
            <a:ext cx="1440" cy="8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9"/>
          <p:cNvSpPr/>
          <p:nvPr/>
        </p:nvSpPr>
        <p:spPr>
          <a:xfrm flipH="1">
            <a:off x="746280" y="2320920"/>
            <a:ext cx="7365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0"/>
          <p:cNvSpPr/>
          <p:nvPr/>
        </p:nvSpPr>
        <p:spPr>
          <a:xfrm>
            <a:off x="1882800" y="3292560"/>
            <a:ext cx="57240" cy="1314360"/>
          </a:xfrm>
          <a:custGeom>
            <a:avLst/>
            <a:gdLst>
              <a:gd name="textAreaLeft" fmla="*/ 0 w 57240"/>
              <a:gd name="textAreaRight" fmla="*/ 40320 w 57240"/>
              <a:gd name="textAreaTop" fmla="*/ 54720 h 1314360"/>
              <a:gd name="textAreaBottom" fmla="*/ 1259640 h 13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1"/>
          <p:cNvSpPr/>
          <p:nvPr/>
        </p:nvSpPr>
        <p:spPr>
          <a:xfrm>
            <a:off x="731880" y="2852640"/>
            <a:ext cx="0" cy="87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2"/>
          <p:cNvSpPr/>
          <p:nvPr/>
        </p:nvSpPr>
        <p:spPr>
          <a:xfrm>
            <a:off x="3200400" y="2286000"/>
            <a:ext cx="567216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is a large amount of money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business needs specific requirements that need to be put into writing such as quality levels, delivery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 Narrow"/>
              </a:rPr>
              <a:t>Two basic types of contr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xed-price – price does not change for life of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st-based – price tied to cost of selected key input or economic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3"/>
          <p:cNvSpPr/>
          <p:nvPr/>
        </p:nvSpPr>
        <p:spPr>
          <a:xfrm>
            <a:off x="2590920" y="1752480"/>
            <a:ext cx="62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8"/>
                </a:solidFill>
                <a:latin typeface="Arial"/>
              </a:rPr>
              <a:t>Contracting is most effective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4"/>
          <p:cNvSpPr/>
          <p:nvPr/>
        </p:nvSpPr>
        <p:spPr>
          <a:xfrm>
            <a:off x="1308240" y="274680"/>
            <a:ext cx="7835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0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lier Selection - 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5"/>
          <p:cNvSpPr/>
          <p:nvPr/>
        </p:nvSpPr>
        <p:spPr>
          <a:xfrm>
            <a:off x="228600" y="2895480"/>
            <a:ext cx="2819520" cy="304920"/>
          </a:xfrm>
          <a:prstGeom prst="flowChartProcess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upplier selection &amp; contrac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8790E2BE-0A94-4191-8D00-99C80F5D6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2"/>
          <p:cNvGrpSpPr/>
          <p:nvPr/>
        </p:nvGrpSpPr>
        <p:grpSpPr>
          <a:xfrm>
            <a:off x="423720" y="1739880"/>
            <a:ext cx="2611440" cy="3263760"/>
            <a:chOff x="423720" y="1739880"/>
            <a:chExt cx="2611440" cy="3263760"/>
          </a:xfrm>
        </p:grpSpPr>
        <p:sp>
          <p:nvSpPr>
            <p:cNvPr id="461" name="AutoShape 3"/>
            <p:cNvSpPr/>
            <p:nvPr/>
          </p:nvSpPr>
          <p:spPr>
            <a:xfrm>
              <a:off x="423720" y="3122640"/>
              <a:ext cx="2457720" cy="307800"/>
            </a:xfrm>
            <a:prstGeom prst="flowChart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rchase order prepa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4"/>
            <p:cNvSpPr/>
            <p:nvPr/>
          </p:nvSpPr>
          <p:spPr>
            <a:xfrm>
              <a:off x="423720" y="4659480"/>
              <a:ext cx="2457720" cy="307800"/>
            </a:xfrm>
            <a:prstGeom prst="flowChart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ords mainten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5"/>
            <p:cNvSpPr/>
            <p:nvPr/>
          </p:nvSpPr>
          <p:spPr>
            <a:xfrm>
              <a:off x="423720" y="4275000"/>
              <a:ext cx="2457720" cy="308160"/>
            </a:xfrm>
            <a:prstGeom prst="flowChart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ttlement and pa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6"/>
            <p:cNvSpPr/>
            <p:nvPr/>
          </p:nvSpPr>
          <p:spPr>
            <a:xfrm>
              <a:off x="423720" y="3890880"/>
              <a:ext cx="2457720" cy="308160"/>
            </a:xfrm>
            <a:prstGeom prst="flowChart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eipt and insp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7"/>
            <p:cNvSpPr/>
            <p:nvPr/>
          </p:nvSpPr>
          <p:spPr>
            <a:xfrm>
              <a:off x="423720" y="3506760"/>
              <a:ext cx="2457720" cy="308160"/>
            </a:xfrm>
            <a:prstGeom prst="flowChart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llow-up and expedi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8"/>
            <p:cNvSpPr/>
            <p:nvPr/>
          </p:nvSpPr>
          <p:spPr>
            <a:xfrm>
              <a:off x="1325520" y="173988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9"/>
            <p:cNvSpPr/>
            <p:nvPr/>
          </p:nvSpPr>
          <p:spPr>
            <a:xfrm>
              <a:off x="1332000" y="287964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10"/>
            <p:cNvSpPr/>
            <p:nvPr/>
          </p:nvSpPr>
          <p:spPr>
            <a:xfrm>
              <a:off x="577800" y="2527200"/>
              <a:ext cx="712800" cy="29232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1"/>
            <p:cNvSpPr/>
            <p:nvPr/>
          </p:nvSpPr>
          <p:spPr>
            <a:xfrm>
              <a:off x="1332000" y="2004840"/>
              <a:ext cx="712800" cy="181080"/>
            </a:xfrm>
            <a:prstGeom prst="flowChartProcess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2"/>
            <p:cNvSpPr/>
            <p:nvPr/>
          </p:nvSpPr>
          <p:spPr>
            <a:xfrm>
              <a:off x="1690560" y="3035160"/>
              <a:ext cx="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3"/>
            <p:cNvSpPr/>
            <p:nvPr/>
          </p:nvSpPr>
          <p:spPr>
            <a:xfrm>
              <a:off x="1674720" y="2349360"/>
              <a:ext cx="9720" cy="51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4"/>
            <p:cNvSpPr/>
            <p:nvPr/>
          </p:nvSpPr>
          <p:spPr>
            <a:xfrm>
              <a:off x="938160" y="2333520"/>
              <a:ext cx="1800" cy="17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15"/>
            <p:cNvSpPr/>
            <p:nvPr/>
          </p:nvSpPr>
          <p:spPr>
            <a:xfrm>
              <a:off x="1684440" y="2178000"/>
              <a:ext cx="0" cy="8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16"/>
            <p:cNvSpPr/>
            <p:nvPr/>
          </p:nvSpPr>
          <p:spPr>
            <a:xfrm>
              <a:off x="1690560" y="343044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7"/>
            <p:cNvSpPr/>
            <p:nvPr/>
          </p:nvSpPr>
          <p:spPr>
            <a:xfrm>
              <a:off x="1690560" y="381492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18"/>
            <p:cNvSpPr/>
            <p:nvPr/>
          </p:nvSpPr>
          <p:spPr>
            <a:xfrm>
              <a:off x="1690560" y="4199040"/>
              <a:ext cx="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9"/>
            <p:cNvSpPr/>
            <p:nvPr/>
          </p:nvSpPr>
          <p:spPr>
            <a:xfrm>
              <a:off x="1690560" y="4583160"/>
              <a:ext cx="0" cy="8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0"/>
            <p:cNvSpPr/>
            <p:nvPr/>
          </p:nvSpPr>
          <p:spPr>
            <a:xfrm>
              <a:off x="1674720" y="1924200"/>
              <a:ext cx="180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1"/>
            <p:cNvSpPr/>
            <p:nvPr/>
          </p:nvSpPr>
          <p:spPr>
            <a:xfrm flipH="1">
              <a:off x="938160" y="2320920"/>
              <a:ext cx="7365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2"/>
            <p:cNvSpPr/>
            <p:nvPr/>
          </p:nvSpPr>
          <p:spPr>
            <a:xfrm flipH="1" flipV="1">
              <a:off x="937800" y="2824200"/>
              <a:ext cx="180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3"/>
            <p:cNvSpPr/>
            <p:nvPr/>
          </p:nvSpPr>
          <p:spPr>
            <a:xfrm>
              <a:off x="938160" y="2957400"/>
              <a:ext cx="393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24"/>
            <p:cNvSpPr/>
            <p:nvPr/>
          </p:nvSpPr>
          <p:spPr>
            <a:xfrm>
              <a:off x="2959200" y="3084480"/>
              <a:ext cx="75960" cy="191916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79920 h 1919160"/>
                <a:gd name="textAreaBottom" fmla="*/ 1839240 h 19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Rectangle 25"/>
          <p:cNvSpPr/>
          <p:nvPr/>
        </p:nvSpPr>
        <p:spPr>
          <a:xfrm>
            <a:off x="3381480" y="2008080"/>
            <a:ext cx="549252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8"/>
                </a:solidFill>
                <a:latin typeface="Arial"/>
              </a:rPr>
              <a:t>Purchase order preparation</a:t>
            </a:r>
            <a:br>
              <a:rPr sz="26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4% of firms currently have electronic data interchange (EDI) with some part of their supply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8"/>
                </a:solidFill>
                <a:latin typeface="Arial"/>
              </a:rPr>
              <a:t>Follow-up and exped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8"/>
                </a:solidFill>
                <a:latin typeface="Arial"/>
              </a:rPr>
              <a:t>Receipt and insp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8"/>
                </a:solidFill>
                <a:latin typeface="Arial"/>
              </a:rPr>
              <a:t>Invoice clearance and pa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98"/>
                </a:solidFill>
                <a:latin typeface="Arial"/>
              </a:rPr>
              <a:t>Records mainte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1384200" y="274680"/>
            <a:ext cx="775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br>
              <a:rPr sz="40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rder 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82BC8B76-71AC-4EBE-B161-EBF57AD28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nd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8"/>
                </a:solidFill>
                <a:latin typeface="Arial"/>
              </a:rPr>
              <a:t>Answers th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top 10 commodities by annual spend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vides priority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commodities have the most suppliers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elps reduce purchasing lo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commodities have the lowest spend per supplier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also among top 10, potential for sav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457200" y="57913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* Similar to ABC analysis to identify critical inventory items based on cost and quant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3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87C5158D-F41D-40FA-9EE8-5D001906B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ical Answer to First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5" descr=""/>
          <p:cNvPicPr/>
          <p:nvPr/>
        </p:nvPicPr>
        <p:blipFill>
          <a:blip r:embed="rId1"/>
          <a:stretch/>
        </p:blipFill>
        <p:spPr>
          <a:xfrm>
            <a:off x="1243080" y="1638360"/>
            <a:ext cx="68342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y in Purcha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8"/>
                </a:solidFill>
                <a:latin typeface="Arial"/>
              </a:rPr>
              <a:t>The ABCs of Spe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0A9089AA-0D8D-410F-9E2A-2915461C1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 Purchasing is Cri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urchas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nd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FC1B44FD-36BD-4CA0-9F6E-568405194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70040" y="2776680"/>
            <a:ext cx="7873920" cy="341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Sourcing decisions – </a:t>
            </a:r>
            <a:r>
              <a:rPr b="0" lang="en-US" sz="2400" spc="-1" strike="noStrike">
                <a:solidFill>
                  <a:srgbClr val="990098"/>
                </a:solidFill>
                <a:latin typeface="Arial"/>
              </a:rPr>
              <a:t>(discussed in Chapter 10)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evel, often strategic decisions regarding which products or services will be provided internally and which will be provided by external supply-chain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9900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8"/>
                </a:solidFill>
                <a:latin typeface="Arial"/>
              </a:rPr>
              <a:t>Purchasing –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ivities associated with identifying needs, locating and selecting suppliers, negotiating terms, and following up to ensure supplie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23720" y="1854360"/>
            <a:ext cx="83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ing decisions and purchasing activities serve to link a company with its supply chain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6AB06726-F471-46DC-B115-18BB63056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urcha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Critical – 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0080" y="3120840"/>
            <a:ext cx="7391520" cy="27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ete globally, you need to purchase glob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urchasing efforts are supported by advances in inform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08200" y="1892160"/>
            <a:ext cx="779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8"/>
                </a:solidFill>
                <a:latin typeface="Arial"/>
              </a:rPr>
              <a:t>The Changing Global Competitive Landsc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0172C3A6-FC54-4922-AC2C-83C0A1F0D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00080" y="2660760"/>
            <a:ext cx="739152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average manufacturer, 52.5% of the value of shipments comes from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ing represents a major opportunity to increase profi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08200" y="1892160"/>
            <a:ext cx="77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8"/>
                </a:solidFill>
                <a:latin typeface="Arial"/>
              </a:rPr>
              <a:t>Financial Im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urcha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Critical – I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8BC0E75E-346E-4C10-A91E-8E715A952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Purchasing is Critica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Impact -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1520" y="2660760"/>
            <a:ext cx="6683400" cy="33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8"/>
                </a:solidFill>
                <a:latin typeface="Arial"/>
              </a:rPr>
              <a:t>Earnings and Exp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6,4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8,4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tax earn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$2,3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8"/>
                </a:solidFill>
                <a:latin typeface="Arial"/>
              </a:rPr>
              <a:t>Selected Balance Sheet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chandise inven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$3,9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ass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$16,1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47760" y="1739880"/>
            <a:ext cx="8526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Lowe’s Compan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6492960" y="2514600"/>
            <a:ext cx="2651040" cy="1344600"/>
          </a:xfrm>
          <a:prstGeom prst="wedgeRoundRectCallout">
            <a:avLst>
              <a:gd name="adj1" fmla="val -78504"/>
              <a:gd name="adj2" fmla="val 55194"/>
              <a:gd name="adj3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very dollar saved in purchasing for increases pretax profit by one dol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6338880" y="4197240"/>
            <a:ext cx="2500200" cy="1670040"/>
          </a:xfrm>
          <a:prstGeom prst="wedgeRoundRectCallout">
            <a:avLst>
              <a:gd name="adj1" fmla="val -76412"/>
              <a:gd name="adj2" fmla="val 29564"/>
              <a:gd name="adj3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very dollar sav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 purchasing inventor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owers total assets by one dol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560DED5E-3283-4114-A7CF-F7A4C6E6A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1520" y="2698920"/>
            <a:ext cx="6683400" cy="33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8"/>
                </a:solidFill>
                <a:latin typeface="Arial"/>
              </a:rPr>
              <a:t>Earnings and Expenses     </a:t>
            </a:r>
            <a:r>
              <a:rPr b="1" i="1" lang="en-US" sz="2000" spc="-1" strike="noStrike">
                <a:solidFill>
                  <a:srgbClr val="990098"/>
                </a:solidFill>
                <a:latin typeface="Arial Narrow"/>
              </a:rPr>
              <a:t>Current       With 3% sa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$26,49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26,49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G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$18,46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17,9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tax earning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$2,359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$2,9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98"/>
                </a:solidFill>
                <a:latin typeface="Arial"/>
              </a:rPr>
              <a:t>Selected Balance Sheet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chandise inven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3,96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$3,8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sse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6,109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5,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31880" y="1816200"/>
            <a:ext cx="76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% purchasing reduction in C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6915240" y="2776680"/>
            <a:ext cx="2036520" cy="1344600"/>
          </a:xfrm>
          <a:prstGeom prst="wedgeRoundRectCallout">
            <a:avLst>
              <a:gd name="adj1" fmla="val -84449"/>
              <a:gd name="adj2" fmla="val 44805"/>
              <a:gd name="adj3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tax earnings increase by $554 (23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6915240" y="4543560"/>
            <a:ext cx="2035080" cy="1074600"/>
          </a:xfrm>
          <a:prstGeom prst="wedgeRoundRectCallout">
            <a:avLst>
              <a:gd name="adj1" fmla="val -85101"/>
              <a:gd name="adj2" fmla="val 45717"/>
              <a:gd name="adj3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 increases from 14.6% to 18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Purchasing is Critica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Impact -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457200" y="6245280"/>
            <a:ext cx="59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Pearson Prentice Hall --- Introduction to Operations and Supply Chain Management, 2/e --- Bozarth and Handfield, ISBN: 01317910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781680" y="6245280"/>
            <a:ext cx="1905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1, Slide </a:t>
            </a:r>
            <a:fld id="{554055AD-9EEF-48FF-9131-6F30540A0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00080" y="2660760"/>
            <a:ext cx="739152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exploit new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808200" y="1892160"/>
            <a:ext cx="77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8"/>
                </a:solidFill>
                <a:latin typeface="Arial"/>
              </a:rPr>
              <a:t>Performance Im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4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urcha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Critical – II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22:51:18Z</dcterms:created>
  <dc:creator>Kenneth A. Shaw</dc:creator>
  <dc:description/>
  <dc:language>en-US</dc:language>
  <cp:lastModifiedBy>JHoover</cp:lastModifiedBy>
  <dcterms:modified xsi:type="dcterms:W3CDTF">2011-07-03T20:04:59Z</dcterms:modified>
  <cp:revision>61</cp:revision>
  <dc:subject>Chapter 11, Bozarth &amp; Handfield, 2/e</dc:subject>
  <dc:title>Purchas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ient">
    <vt:lpwstr>Prentice-Hall</vt:lpwstr>
  </property>
</Properties>
</file>